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23D-9C48-4689-9BDF-C7956C72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6B3-F0A0-4D23-BCBD-5F52F66F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FAA-66EF-47A6-89F8-C52A1E43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13B-CB4D-427B-A4AD-10DDD300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6F45-EFC1-474A-A0B2-C97C48D8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0FB1-AA2E-4AE7-A21E-AECBCE26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4A40-993E-48B1-8498-2F9395E6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988F-71BC-479F-91A0-7C030118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AF3A-B712-4A6A-9A5C-20D2A5FA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FD0F-AC02-4544-B4DA-28794953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F549-39B3-453E-BB25-91CAA9A3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4AA-67DE-4376-B6AB-4EA21BE6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11CC-EF2D-444F-8455-EAD7B5D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FCF8-EA06-4A69-B641-A4C6166D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3B7F-D490-45F2-AA77-ECF08A19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DC8D-F303-4EE0-85F9-F335AE2D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F7D4-12D7-4166-8F6A-27AD5CA4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759-F85B-4121-8A78-08866AF1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7CA-4019-45C3-A73F-4295DD8E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C6E-3E6A-4484-92ED-2C0EF6FE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717-39F6-4ABA-8720-AFE21861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EB5-C425-4BD8-ADDB-93F5237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C35-B20E-4E6C-9DED-6DED45B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39B-02BC-46AE-B553-D2A2CD0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934D-1F31-4C10-B7BB-BDC160C587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5958-8705-4147-A4F3-97411D2964D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ема: «Природные сообщест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6 класс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Учитель химии и биологи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кв.кат.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леева Л.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5" descr="i-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a0c7360e064569d2eeacc3df9f3d2cfe"/>
          <p:cNvPicPr/>
          <p:nvPr/>
        </p:nvPicPr>
        <p:blipFill>
          <a:blip r:embed="rId1"/>
          <a:stretch/>
        </p:blipFill>
        <p:spPr>
          <a:xfrm>
            <a:off x="324000" y="174600"/>
            <a:ext cx="77752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i-1058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i-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i-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7" descr="i-1527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i-642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50920" y="0"/>
            <a:ext cx="5139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5" descr="i-961"/>
          <p:cNvPicPr/>
          <p:nvPr/>
        </p:nvPicPr>
        <p:blipFill>
          <a:blip r:embed="rId1"/>
          <a:stretch/>
        </p:blipFill>
        <p:spPr>
          <a:xfrm>
            <a:off x="17928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5" descr="i-828"/>
          <p:cNvPicPr/>
          <p:nvPr/>
        </p:nvPicPr>
        <p:blipFill>
          <a:blip r:embed="rId1"/>
          <a:stretch/>
        </p:blipFill>
        <p:spPr>
          <a:xfrm>
            <a:off x="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5" descr="i-1088"/>
          <p:cNvPicPr/>
          <p:nvPr/>
        </p:nvPicPr>
        <p:blipFill>
          <a:blip r:embed="rId1"/>
          <a:stretch/>
        </p:blipFill>
        <p:spPr>
          <a:xfrm>
            <a:off x="0" y="135000"/>
            <a:ext cx="93963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5" descr="i-82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i-823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 – сосна, 2 – карась, 3 – черника, 4 – жаворонок, 5 – полевка (мышь), 6 – ряска, 7 – ландыш майский,  8 – дятел, 9 – пижма обыкновенная, 10 – зверобой,  11 – ель обыкновенная,  12 – выдра, 13–  лось, 14 – маслен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1,3,7,8,11,13,14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4,5,9,10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 2,6,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5" descr="i-646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йте схему пищевой цепи, включив в нее следующие организмы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яц, лиса, травянистое растение, кузнечик, лягушка, волк, змея, ястреб, сова,  мышь, гусеница, кукушка, перепелка, дяте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- гусеница – кукуш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–кузнечик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ягушка – змея – ястреб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5" descr="i-8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ие утверждения верн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тепь является сообще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Б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сообществе все организмы связаны между соб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) Потребителем является берез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) Дождевой червь относится к производител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) Сова – это разрушите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Е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Цепи питания в сообществах образуют сложные сети пит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) Обычно цепи питания состоят из 8 – 10 звенье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7" descr="i-5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i-1086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. 25 изучить, выполнить задание на с.  170, устно ответить на вопросы на стр. 171; подготовить сообщение о взаимодействии организмов в любом сообществе (по желанию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крыть понятие «Природные сообществ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пределить основные компоненты сообщества, сложность их взаимоотношений на примере цепей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ть составлять простые цепи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Развивающи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должить осваивать технологию индивидуализированного  обуче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звивать навыки установления причинно-следственных связей, работы с учебником, извлекая из них полезную информацию,  находить по его рисункам необходимые сведения для выполнения зада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оспитательны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здать условия для индивидуализированной продуктивной работы каждого уче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тивировать учебную деятельность поэтапным достижением результа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кологические ф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8760" y="2071800"/>
          <a:ext cx="8229600" cy="3355920"/>
        </p:xfrm>
        <a:graphic>
          <a:graphicData uri="http://schemas.openxmlformats.org/drawingml/2006/table">
            <a:tbl>
              <a:tblPr/>
              <a:tblGrid>
                <a:gridCol w="4329000"/>
                <a:gridCol w="390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кологические фактор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неживой природы (абиотические)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Б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живой природы (биотические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еятельность человека (антропогенный фактор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i-1068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188640"/>
            <a:ext cx="78040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i-974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i-1059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i-14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01:08Z</dcterms:created>
  <dc:creator>Роберт</dc:creator>
  <dc:description/>
  <dc:language>en-US</dc:language>
  <cp:lastModifiedBy>Ray</cp:lastModifiedBy>
  <dcterms:modified xsi:type="dcterms:W3CDTF">2013-03-14T08:09:55Z</dcterms:modified>
  <cp:revision>7</cp:revision>
  <dc:subject/>
  <dc:title>Слайд 1</dc:title>
</cp:coreProperties>
</file>